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media/image5.png" ContentType="image/png"/>
  <Override PartName="/ppt/media/image10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7FD-ECB4-464F-9AC4-52E66091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D0C-AEB1-4680-981C-28BBFC8F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F3F-6140-47CC-B319-05B78111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5F0-8F71-4B92-89BF-2A6F1264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F59-A824-4544-BD17-6722BB35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30E-4930-49D8-9182-876D645A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A7E-4287-4BBA-BFE7-9B7F2DB2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E50-B266-4954-B570-83914C8E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F87-B79D-4A8B-B0B4-0D682E87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2D0-2448-4B73-8DA0-EB8183F9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98C-11F7-45C2-BAE0-109641ED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A43-7FAE-4AC9-AE5B-746BA6C0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E67B-47C2-4A96-B13C-C9CC131444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LI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he Characteristics of 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10664" r="0" b="7998"/>
          <a:stretch/>
        </p:blipFill>
        <p:spPr>
          <a:xfrm>
            <a:off x="1219320" y="838080"/>
            <a:ext cx="7315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ing Biological Investig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Measurement:  Metric system is 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829040" cy="3819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62120" y="2938320"/>
            <a:ext cx="4724280" cy="2533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895480" y="2057400"/>
            <a:ext cx="4762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r, m, cm, mm,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s, g, kg,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, l, ml,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,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freezing point of water,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boiling point of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16002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 1 Main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ing questions to ge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ing hypothesis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cientific equipment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 Dissection:  BIOLOG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- means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logy means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Biology means the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83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Biologists know what is living and what is non-liv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INQUIRY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urn, biologists came together and agreed on some general characteristics required for life. (although with some disagre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v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rganisms have the following characteristic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de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ased on a genetic code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Need energy/Have to ability to carry out metabo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Grow and devel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Rep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Respond to their environment/Ada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Maintain homeo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Change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e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22640" y="990720"/>
            <a:ext cx="422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things are made up of units called CELL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living matter enclosed by a barrier that separates the cell from its surround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 can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ingle-celled)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any-celle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ility to Reprodu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685800"/>
            <a:ext cx="437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basic kinds of re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x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wo cells from different parents unite to produce the first cell of the new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ex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new organism has a single parent. Ex: Hydra reproduce by bud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26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ying out Metabolis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reactions through which an organism builds up or breaks down materials as it carries out its life processes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6536"/>
          <a:stretch/>
        </p:blipFill>
        <p:spPr>
          <a:xfrm>
            <a:off x="3581280" y="320040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 and Develo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9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ype of organism has a distin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fe cy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articular pattern of growth and change over its life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4343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d to Environ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81480" y="1523880"/>
            <a:ext cx="376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 live in a changing environment, and so they must respond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A plant seed can germinate only when there is sufficient water and the ground is warm enoug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8T21:55:47Z</dcterms:created>
  <dc:creator>System Operations</dc:creator>
  <dc:description/>
  <dc:language>en-US</dc:language>
  <cp:lastModifiedBy>Tera Linn</cp:lastModifiedBy>
  <dcterms:modified xsi:type="dcterms:W3CDTF">2011-08-24T20:25:15Z</dcterms:modified>
  <cp:revision>17</cp:revision>
  <dc:subject/>
  <dc:title>WHAT IS LIFE?</dc:title>
</cp:coreProperties>
</file>